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A9C-76F4-409C-942B-2968B644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B88-D5C7-4BD5-B45E-FF6A2D7A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449-2302-4CAD-8DD6-5C4F73DF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FDB-144E-462C-82A5-0298E70E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4CF-5FE8-494B-9B27-06544088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106-5897-44E0-B553-370889BF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84E1-0AEF-4C60-95AD-F22B11F2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5AF-8E7D-4E99-8793-373AED57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14C-2CE0-4617-89F9-866C0C38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892-A461-49FB-979D-2E90A887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0EE-9708-4B63-ABDE-96B8D4CE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2D8B-BF08-4DF2-AC11-829C3EB4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6454-4D38-4CB3-9342-F31EA795BDE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CuadroTexto"/>
          <p:cNvSpPr/>
          <p:nvPr/>
        </p:nvSpPr>
        <p:spPr>
          <a:xfrm>
            <a:off x="1619280" y="38908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e femme avec une voiture rouge attendait à un feu quand tout à coup une voiture jaune a heurté la sienne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E:\Francés\Cochee.png"/>
          <p:cNvPicPr/>
          <p:nvPr/>
        </p:nvPicPr>
        <p:blipFill>
          <a:blip r:embed="rId1"/>
          <a:stretch/>
        </p:blipFill>
        <p:spPr>
          <a:xfrm>
            <a:off x="576360" y="149400"/>
            <a:ext cx="81453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3 CuadroTexto"/>
          <p:cNvSpPr/>
          <p:nvPr/>
        </p:nvSpPr>
        <p:spPr>
          <a:xfrm>
            <a:off x="868320" y="460692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emme qui avait heurté était trés inquiéte pour son fils et elle a regardé s´il était bien. L´autre femme aussi était inquiéte et elle est allée  l’aider. La femme était grosse, portait une jupe avec des fleurs violettes et  avait un chign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E:\Francés\Coche 2.png"/>
          <p:cNvPicPr/>
          <p:nvPr/>
        </p:nvPicPr>
        <p:blipFill>
          <a:blip r:embed="rId1"/>
          <a:stretch/>
        </p:blipFill>
        <p:spPr>
          <a:xfrm>
            <a:off x="1476360" y="549360"/>
            <a:ext cx="66880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2 CuadroTexto"/>
          <p:cNvSpPr/>
          <p:nvPr/>
        </p:nvSpPr>
        <p:spPr>
          <a:xfrm>
            <a:off x="468360" y="465300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ame qui portait une jupe a demandé le numéro de téléphone à l'autre dame pour réparer sa voi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E:\Francés\Coche 3.png"/>
          <p:cNvPicPr/>
          <p:nvPr/>
        </p:nvPicPr>
        <p:blipFill>
          <a:blip r:embed="rId1"/>
          <a:stretch/>
        </p:blipFill>
        <p:spPr>
          <a:xfrm>
            <a:off x="2590920" y="620640"/>
            <a:ext cx="60116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826920" y="4221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femmes ont regardé si la voiture était bien et la grosse dame a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 la voiture jaune pour la répar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E:\Francés\coche 4.png"/>
          <p:cNvPicPr/>
          <p:nvPr/>
        </p:nvPicPr>
        <p:blipFill>
          <a:blip r:embed="rId1"/>
          <a:stretch/>
        </p:blipFill>
        <p:spPr>
          <a:xfrm>
            <a:off x="2589120" y="189000"/>
            <a:ext cx="367668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790560" y="458136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emme est sortie avec sa fille du supermaché a trouvé sa voiture reparé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elle était très contente. Tandis que l´autre femme partait avec sa voi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E:\Francés\Coche 5.png"/>
          <p:cNvPicPr/>
          <p:nvPr/>
        </p:nvPicPr>
        <p:blipFill>
          <a:blip r:embed="rId1"/>
          <a:stretch/>
        </p:blipFill>
        <p:spPr>
          <a:xfrm>
            <a:off x="303120" y="250920"/>
            <a:ext cx="8535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21:17:33Z</dcterms:created>
  <dc:creator>vero</dc:creator>
  <dc:description/>
  <dc:language>en-US</dc:language>
  <cp:lastModifiedBy>alumno</cp:lastModifiedBy>
  <dcterms:modified xsi:type="dcterms:W3CDTF">2012-06-13T10:38:34Z</dcterms:modified>
  <cp:revision>17</cp:revision>
  <dc:subject/>
  <dc:title>Diapositiva 1</dc:title>
</cp:coreProperties>
</file>