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7DC-0F05-4DC1-A0F4-FCAF614F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792-7A22-4F9F-9ED7-C2FB15E4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3F6-3F50-4EEB-87CE-25BFD071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069-3F5B-4F13-9808-A892B2AC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EF5-AE36-4F18-99B9-DDA8BDA5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F04-0023-4AC3-B095-CD1F404D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8EC-6512-4276-A409-B620100C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EE5-B69C-4494-8CC2-F58C6FFB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569-7FB1-46D1-B292-11738311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053-DE1B-447E-9F74-7F48F5DE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AF9-4089-404F-8CC2-F33313A8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328-2D74-4DC1-806D-F3551A85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DA46-AB66-4E4B-98B8-2AD83A2967D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1619280" y="38908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e femme avec une voiture rouge attendait à un feu quand tout à coup une voiture jaune a heurté la sienne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E:\Francés\Cochee.png"/>
          <p:cNvPicPr/>
          <p:nvPr/>
        </p:nvPicPr>
        <p:blipFill>
          <a:blip r:embed="rId1"/>
          <a:stretch/>
        </p:blipFill>
        <p:spPr>
          <a:xfrm>
            <a:off x="576360" y="149400"/>
            <a:ext cx="8145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CuadroTexto"/>
          <p:cNvSpPr/>
          <p:nvPr/>
        </p:nvSpPr>
        <p:spPr>
          <a:xfrm>
            <a:off x="868320" y="46069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emme qui avait heurté était trés inquiéte pour son fils et elle a regardé s´il était bien. L´autre femme aussi était inquiéte et elle est allée  l’aider. La femme était grosse, portait une jupe avec des fleurs violettes et  avait un chign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E:\Francés\Coche 2.png"/>
          <p:cNvPicPr/>
          <p:nvPr/>
        </p:nvPicPr>
        <p:blipFill>
          <a:blip r:embed="rId1"/>
          <a:stretch/>
        </p:blipFill>
        <p:spPr>
          <a:xfrm>
            <a:off x="1476360" y="549360"/>
            <a:ext cx="66880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2 CuadroTexto"/>
          <p:cNvSpPr/>
          <p:nvPr/>
        </p:nvSpPr>
        <p:spPr>
          <a:xfrm>
            <a:off x="468360" y="4653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ame qui portait une jupe a demandé le numéro de téléphone à l'autre dame pour réparer sa voi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:\Francés\Coche 3.png"/>
          <p:cNvPicPr/>
          <p:nvPr/>
        </p:nvPicPr>
        <p:blipFill>
          <a:blip r:embed="rId1"/>
          <a:stretch/>
        </p:blipFill>
        <p:spPr>
          <a:xfrm>
            <a:off x="2590920" y="620640"/>
            <a:ext cx="60116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826920" y="4221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femmes ont regardé si la voiture était bien et la grosse dame a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 la voiture jaune pour la répar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E:\Francés\coche 4.png"/>
          <p:cNvPicPr/>
          <p:nvPr/>
        </p:nvPicPr>
        <p:blipFill>
          <a:blip r:embed="rId1"/>
          <a:stretch/>
        </p:blipFill>
        <p:spPr>
          <a:xfrm>
            <a:off x="2589120" y="189000"/>
            <a:ext cx="36766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790560" y="458136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emme est sortie avec sa fille du supermaché a trouvé sa voiture reparé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elle était très contente. Tandis que l´autre femme partait avec sa voi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:\Francés\Coche 5.png"/>
          <p:cNvPicPr/>
          <p:nvPr/>
        </p:nvPicPr>
        <p:blipFill>
          <a:blip r:embed="rId1"/>
          <a:stretch/>
        </p:blipFill>
        <p:spPr>
          <a:xfrm>
            <a:off x="303120" y="250920"/>
            <a:ext cx="8535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1:17:33Z</dcterms:created>
  <dc:creator>vero</dc:creator>
  <dc:description/>
  <dc:language>en-US</dc:language>
  <cp:lastModifiedBy>alumno</cp:lastModifiedBy>
  <dcterms:modified xsi:type="dcterms:W3CDTF">2012-06-13T10:38:34Z</dcterms:modified>
  <cp:revision>17</cp:revision>
  <dc:subject/>
  <dc:title>Diapositiva 1</dc:title>
</cp:coreProperties>
</file>