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628-16CD-441B-8524-203B8851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2D9-34C1-4E5F-A519-F30922FB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E4B-D9AF-452F-B9C3-3CD5D5F8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084-EFE5-4BD7-9110-D7A449A3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F2B-F41A-4CF3-991A-92DB3F6D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D1A-B02F-4CD1-B215-F9478110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2EA-5978-444F-939E-553B5D2F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6C2-4EE1-46C9-ACD1-DADC8F0D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A15-EAFD-408F-BC0B-05F367E8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CE5-304D-44D5-BE8B-8A980E1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9E6-C4BE-4594-905E-9E2FB02A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721-E4DA-44DF-AFA3-53DC145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309D-4B34-4730-B2A8-1F68AF84932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1619280" y="38908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e femme avec une voiture rouge attendait à un feu quand tout à coup une voiture jaune a heurté la sienne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:\Francés\Cochee.png"/>
          <p:cNvPicPr/>
          <p:nvPr/>
        </p:nvPicPr>
        <p:blipFill>
          <a:blip r:embed="rId1"/>
          <a:stretch/>
        </p:blipFill>
        <p:spPr>
          <a:xfrm>
            <a:off x="576360" y="149400"/>
            <a:ext cx="8145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CuadroTexto"/>
          <p:cNvSpPr/>
          <p:nvPr/>
        </p:nvSpPr>
        <p:spPr>
          <a:xfrm>
            <a:off x="868320" y="4606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qui avait heurté était trés inquiéte pour son fils et elle a regardé s´il était bien. L´autre femme aussi était inquiéte et elle est allée  l’aider. La femme était grosse, portait une jupe avec des fleurs violettes et  avait un chign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:\Francés\Coche 2.png"/>
          <p:cNvPicPr/>
          <p:nvPr/>
        </p:nvPicPr>
        <p:blipFill>
          <a:blip r:embed="rId1"/>
          <a:stretch/>
        </p:blipFill>
        <p:spPr>
          <a:xfrm>
            <a:off x="1476360" y="549360"/>
            <a:ext cx="66880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CuadroTexto"/>
          <p:cNvSpPr/>
          <p:nvPr/>
        </p:nvSpPr>
        <p:spPr>
          <a:xfrm>
            <a:off x="468360" y="4653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ame qui portait une jupe a demandé le numéro de téléphone à l'autre dame pour réparer sa voi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:\Francés\Coche 3.png"/>
          <p:cNvPicPr/>
          <p:nvPr/>
        </p:nvPicPr>
        <p:blipFill>
          <a:blip r:embed="rId1"/>
          <a:stretch/>
        </p:blipFill>
        <p:spPr>
          <a:xfrm>
            <a:off x="2590920" y="620640"/>
            <a:ext cx="60116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826920" y="4221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femmes ont regardé si la voiture était bien et la grosse dame 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 la voiture jaune pour la répar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:\Francés\coche 4.png"/>
          <p:cNvPicPr/>
          <p:nvPr/>
        </p:nvPicPr>
        <p:blipFill>
          <a:blip r:embed="rId1"/>
          <a:stretch/>
        </p:blipFill>
        <p:spPr>
          <a:xfrm>
            <a:off x="2589120" y="189000"/>
            <a:ext cx="36766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790560" y="4581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est sortie avec sa fille du supermaché a trouvé sa voiture reparé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elle était très contente. Tandis que l´autre femme partait avec sa voi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:\Francés\Coche 5.png"/>
          <p:cNvPicPr/>
          <p:nvPr/>
        </p:nvPicPr>
        <p:blipFill>
          <a:blip r:embed="rId1"/>
          <a:stretch/>
        </p:blipFill>
        <p:spPr>
          <a:xfrm>
            <a:off x="303120" y="250920"/>
            <a:ext cx="8535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1:17:33Z</dcterms:created>
  <dc:creator>vero</dc:creator>
  <dc:description/>
  <dc:language>en-US</dc:language>
  <cp:lastModifiedBy>alumno</cp:lastModifiedBy>
  <dcterms:modified xsi:type="dcterms:W3CDTF">2012-06-13T10:38:34Z</dcterms:modified>
  <cp:revision>17</cp:revision>
  <dc:subject/>
  <dc:title>Diapositiva 1</dc:title>
</cp:coreProperties>
</file>