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64A-8E30-475F-8F91-F4A087DB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571-D4E5-4F9C-BC29-716A0D90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0D8-8209-4750-8113-4E2BC2D9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E8D-CC65-44A6-9A4D-131763EA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38D-D30D-4074-B8D5-A25B94A1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5DA-AFEB-4775-8DF3-D5B76864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771-6645-48C2-9A04-864C6A08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572-1507-4394-A5A4-E5118946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1D9-714D-4F40-8E4B-A10C97AA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FFF-79C3-4641-A14C-59995AEB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1CE-FE77-47B4-806B-056B9237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903-DF0B-4411-93E3-1E46C775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5E2A-2256-4526-8BBA-92018B76508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CuadroTexto"/>
          <p:cNvSpPr/>
          <p:nvPr/>
        </p:nvSpPr>
        <p:spPr>
          <a:xfrm>
            <a:off x="1619280" y="38908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e femme avec une voiture rouge attendait à un feu quand tout à coup une voiture jaune a heurté la sienne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E:\Francés\Cochee.png"/>
          <p:cNvPicPr/>
          <p:nvPr/>
        </p:nvPicPr>
        <p:blipFill>
          <a:blip r:embed="rId1"/>
          <a:stretch/>
        </p:blipFill>
        <p:spPr>
          <a:xfrm>
            <a:off x="576360" y="149400"/>
            <a:ext cx="8145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CuadroTexto"/>
          <p:cNvSpPr/>
          <p:nvPr/>
        </p:nvSpPr>
        <p:spPr>
          <a:xfrm>
            <a:off x="868320" y="4606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qui avait heurté était trés inquiéte pour son fils et elle a regardé s´il était bien. L´autre femme aussi était inquiéte et elle est allée  l’aider. La femme était grosse, portait une jupe avec des fleurs violettes et  avait un chign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:\Francés\Coche 2.png"/>
          <p:cNvPicPr/>
          <p:nvPr/>
        </p:nvPicPr>
        <p:blipFill>
          <a:blip r:embed="rId1"/>
          <a:stretch/>
        </p:blipFill>
        <p:spPr>
          <a:xfrm>
            <a:off x="1476360" y="549360"/>
            <a:ext cx="66880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CuadroTexto"/>
          <p:cNvSpPr/>
          <p:nvPr/>
        </p:nvSpPr>
        <p:spPr>
          <a:xfrm>
            <a:off x="468360" y="4653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ame qui portait une jupe a demandé le numéro de téléphone à l'autre dame pour réparer sa voi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:\Francés\Coche 3.png"/>
          <p:cNvPicPr/>
          <p:nvPr/>
        </p:nvPicPr>
        <p:blipFill>
          <a:blip r:embed="rId1"/>
          <a:stretch/>
        </p:blipFill>
        <p:spPr>
          <a:xfrm>
            <a:off x="2590920" y="620640"/>
            <a:ext cx="60116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CuadroTexto"/>
          <p:cNvSpPr/>
          <p:nvPr/>
        </p:nvSpPr>
        <p:spPr>
          <a:xfrm>
            <a:off x="826920" y="4221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femmes ont regardé si la voiture était bien et la grosse dame 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 la voiture jaune pour la répar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:\Francés\coche 4.png"/>
          <p:cNvPicPr/>
          <p:nvPr/>
        </p:nvPicPr>
        <p:blipFill>
          <a:blip r:embed="rId1"/>
          <a:stretch/>
        </p:blipFill>
        <p:spPr>
          <a:xfrm>
            <a:off x="2589120" y="189000"/>
            <a:ext cx="36766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790560" y="4581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femme est sortie avec sa fille du supermaché a trouvé sa voiture reparé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elle était très contente. Tandis que l´autre femme partait avec sa voi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:\Francés\Coche 5.png"/>
          <p:cNvPicPr/>
          <p:nvPr/>
        </p:nvPicPr>
        <p:blipFill>
          <a:blip r:embed="rId1"/>
          <a:stretch/>
        </p:blipFill>
        <p:spPr>
          <a:xfrm>
            <a:off x="303120" y="250920"/>
            <a:ext cx="8535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21:17:33Z</dcterms:created>
  <dc:creator>vero</dc:creator>
  <dc:description/>
  <dc:language>en-US</dc:language>
  <cp:lastModifiedBy>alumno</cp:lastModifiedBy>
  <dcterms:modified xsi:type="dcterms:W3CDTF">2012-06-13T10:38:34Z</dcterms:modified>
  <cp:revision>17</cp:revision>
  <dc:subject/>
  <dc:title>Diapositiva 1</dc:title>
</cp:coreProperties>
</file>