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96B1-9ABD-4389-9470-0D049324C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479E-2275-4377-A987-E34D2E372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209C-64CE-4B20-8659-5C0149656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0AA9-63D7-49D9-88B1-57BA2D5EA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D611-EF53-4802-8872-7BDA8C275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4395-891C-486E-8B80-7D05C7FF1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ED36-D878-4D43-8468-BCF0F59E1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6C98-8EB9-4982-BB19-DA92B9D6B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BAE5-D084-4729-9E5D-98D222A30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AAA0-66AD-4EA1-A6C4-C22061A2E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8F67-8760-4C25-9EE8-91DA36EB9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A80C-F5C3-44F5-8AAD-0DC85C38A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EB4DD-B1F4-4E2A-B2FA-B327243BE2BE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1 CuadroTexto"/>
          <p:cNvSpPr/>
          <p:nvPr/>
        </p:nvSpPr>
        <p:spPr>
          <a:xfrm>
            <a:off x="1619280" y="389088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e femme avec une voiture rouge attendait à un feu quand tout à coup une voiture jaune a heurté la sienne.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E:\Francés\Cochee.png"/>
          <p:cNvPicPr/>
          <p:nvPr/>
        </p:nvPicPr>
        <p:blipFill>
          <a:blip r:embed="rId1"/>
          <a:stretch/>
        </p:blipFill>
        <p:spPr>
          <a:xfrm>
            <a:off x="576360" y="149400"/>
            <a:ext cx="814536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3 CuadroTexto"/>
          <p:cNvSpPr/>
          <p:nvPr/>
        </p:nvSpPr>
        <p:spPr>
          <a:xfrm>
            <a:off x="868320" y="4606920"/>
            <a:ext cx="75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femme qui avait heurté était trés inquiéte pour son fils et elle a regardé s´il était bien. L´autre femme aussi était inquiéte et elle est allée  l’aider. La femme était grosse, portait une jupe avec des fleurs violettes et  avait un chign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E:\Francés\Coche 2.png"/>
          <p:cNvPicPr/>
          <p:nvPr/>
        </p:nvPicPr>
        <p:blipFill>
          <a:blip r:embed="rId1"/>
          <a:stretch/>
        </p:blipFill>
        <p:spPr>
          <a:xfrm>
            <a:off x="1476360" y="549360"/>
            <a:ext cx="6688080" cy="37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2 CuadroTexto"/>
          <p:cNvSpPr/>
          <p:nvPr/>
        </p:nvSpPr>
        <p:spPr>
          <a:xfrm>
            <a:off x="468360" y="465300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dame qui portait une jupe a demandé le numéro de téléphone à l'autre dame pour réparer sa voitur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E:\Francés\Coche 3.png"/>
          <p:cNvPicPr/>
          <p:nvPr/>
        </p:nvPicPr>
        <p:blipFill>
          <a:blip r:embed="rId1"/>
          <a:stretch/>
        </p:blipFill>
        <p:spPr>
          <a:xfrm>
            <a:off x="2590920" y="620640"/>
            <a:ext cx="601164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 CuadroTexto"/>
          <p:cNvSpPr/>
          <p:nvPr/>
        </p:nvSpPr>
        <p:spPr>
          <a:xfrm>
            <a:off x="826920" y="422100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es femmes ont regardé si la voiture était bien et la grosse dame a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is la voiture jaune pour la répar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E:\Francés\coche 4.png"/>
          <p:cNvPicPr/>
          <p:nvPr/>
        </p:nvPicPr>
        <p:blipFill>
          <a:blip r:embed="rId1"/>
          <a:stretch/>
        </p:blipFill>
        <p:spPr>
          <a:xfrm>
            <a:off x="2589120" y="189000"/>
            <a:ext cx="3676680" cy="38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1 CuadroTexto"/>
          <p:cNvSpPr/>
          <p:nvPr/>
        </p:nvSpPr>
        <p:spPr>
          <a:xfrm>
            <a:off x="790560" y="4581360"/>
            <a:ext cx="756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femme est sortie avec sa fille du supermaché a trouvé sa voiture reparée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t elle était très contente. Tandis que l´autre femme partait avec sa voi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E:\Francés\Coche 5.png"/>
          <p:cNvPicPr/>
          <p:nvPr/>
        </p:nvPicPr>
        <p:blipFill>
          <a:blip r:embed="rId1"/>
          <a:stretch/>
        </p:blipFill>
        <p:spPr>
          <a:xfrm>
            <a:off x="303120" y="250920"/>
            <a:ext cx="853596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6T21:17:33Z</dcterms:created>
  <dc:creator>vero</dc:creator>
  <dc:description/>
  <dc:language>en-US</dc:language>
  <cp:lastModifiedBy>alumno</cp:lastModifiedBy>
  <dcterms:modified xsi:type="dcterms:W3CDTF">2012-06-13T10:38:34Z</dcterms:modified>
  <cp:revision>17</cp:revision>
  <dc:subject/>
  <dc:title>Diapositiva 1</dc:title>
</cp:coreProperties>
</file>